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10.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F72B1-E1E8-4EE2-9BF7-4C46A313B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80CFF-C9CC-4645-9719-350D7377D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3DA80-4489-48C7-AB8B-A0FB1C16B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C4C38-4C9E-4FA8-B84A-5386C0F42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6B2A9E-3671-451F-A48F-7174BCD32D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C2A98-FEB5-4E92-8D39-33912FA8B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F5508-A0AC-454F-86AC-F6BC32A19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8B5E5-8C61-422A-936A-310AFA9BE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1C82D-9650-46AF-AB63-B5C4D349D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62E62-2B3C-490C-9388-67CC87044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482B3-04D9-4705-8BD7-5A73B4571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566BA-D534-476B-8001-C5D9362CC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98420-B5CD-4CD3-9E5A-99E9A7B7A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D26F1-4E08-4836-8EB4-E96AA8DE8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CF6AA-C06A-4DA4-86E3-C08791EE9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0828B2-FC43-41E3-8ED7-764724380D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CB3B66-9286-496B-9BA8-059D58507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E75BB-C790-414D-B843-2149B4ED5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BE1E9-B562-4852-9BD5-6B9748B59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13D7E-3DF9-40DC-9E10-EC59DC422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0DE20-4CCC-4CA4-ACBA-E0AF91A01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129A1-5E70-4AD5-932F-F1B57EABD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66C3A-59D3-4EB8-8B1A-D52BB8B51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86FB6-2C3A-4C0F-950B-BA5763F24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2B92A-F7CE-4248-9582-5784B7893BE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84D2-26C7-43BB-AAB9-76B0E83A5D2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stopbullying.gov/topics/risk_factors/index.html" TargetMode="External"/><Relationship Id="rId2" Type="http://schemas.openxmlformats.org/officeDocument/2006/relationships/hyperlink" Target="http://www.stopbullying.gov/topics/risk_factors/index.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cdc.gov/violenceprevention/pdf/YV-DataSheet-a.pdf" TargetMode="External"/><Relationship Id="rId2" Type="http://schemas.openxmlformats.org/officeDocument/2006/relationships/hyperlink" Target="http://www.cdc.gov/violenceprevention/pdf/YV-FactSheet-a.pdf"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enting Violence &amp; Abuse</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ch Johnson</a:t>
            </a:r>
            <a:endParaRPr b="0" lang="en-US" sz="3200" spc="-1" strike="noStrike">
              <a:solidFill>
                <a:srgbClr val="000000"/>
              </a:solidFill>
              <a:latin typeface="Arial"/>
            </a:endParaRPr>
          </a:p>
        </p:txBody>
      </p:sp>
      <p:pic>
        <p:nvPicPr>
          <p:cNvPr id="97" name="" descr=""/>
          <p:cNvPicPr/>
          <p:nvPr/>
        </p:nvPicPr>
        <p:blipFill>
          <a:blip r:embed="rId1"/>
          <a:stretch/>
        </p:blipFill>
        <p:spPr>
          <a:xfrm>
            <a:off x="609480" y="3517920"/>
            <a:ext cx="3505320" cy="285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er/Social Risk Factors</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with delinquent peer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ment in gang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rejection by peer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involvement in conventional activitie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academic performance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commitment to school and school fail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munity Risk Factors</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minished economic opportunitie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concentrations of poor resident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level of transiency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level of family disruption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levels of community participation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ly disorganized neighborhoo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dividual/Family PROTECTIVE Factors</a:t>
            </a:r>
            <a:endParaRPr b="0" lang="en-US" sz="3400" spc="-1" strike="noStrike">
              <a:solidFill>
                <a:srgbClr val="000000"/>
              </a:solidFill>
              <a:latin typeface="Arial"/>
            </a:endParaRPr>
          </a:p>
        </p:txBody>
      </p:sp>
      <p:sp>
        <p:nvSpPr>
          <p:cNvPr id="124"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olerant attitude toward devianc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IQ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grade point averag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ve social orientation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sity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edness to family or adults outside the family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discuss problems with parent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ived parental expectations about school performance are high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t shared activities with parent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resence of parent during at least one of the following: when awakening, when arriving home from school, at evening mealtime or going to bed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ment in social activiti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5" name="" descr=""/>
          <p:cNvPicPr/>
          <p:nvPr/>
        </p:nvPicPr>
        <p:blipFill>
          <a:blip r:embed="rId1"/>
          <a:stretch/>
        </p:blipFill>
        <p:spPr>
          <a:xfrm>
            <a:off x="6781680" y="1523880"/>
            <a:ext cx="1943280" cy="18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er/Social PROTECTIVE Factors</a:t>
            </a:r>
            <a:endParaRPr b="0" lang="en-US" sz="3800" spc="-1" strike="noStrike">
              <a:solidFill>
                <a:srgbClr val="000000"/>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ment to school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ment in social activiti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 descr=""/>
          <p:cNvPicPr/>
          <p:nvPr/>
        </p:nvPicPr>
        <p:blipFill>
          <a:blip r:embed="rId1"/>
          <a:stretch/>
        </p:blipFill>
        <p:spPr>
          <a:xfrm>
            <a:off x="2819520" y="3124080"/>
            <a:ext cx="3809880" cy="292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equences</a:t>
            </a:r>
            <a:endParaRPr b="0" lang="en-US" sz="3800" spc="-1" strike="noStrike">
              <a:solidFill>
                <a:srgbClr val="000000"/>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nationwide survey of high school students, about 6% reported not going to school on one or more days in the 30 days preceding the survey because they felt unsafe at school or on their way to and from school (CDC 2010). </a:t>
            </a:r>
            <a:endParaRPr b="0" lang="en-US" sz="3200" spc="-1" strike="noStrike">
              <a:solidFill>
                <a:srgbClr val="000000"/>
              </a:solidFill>
              <a:latin typeface="Arial"/>
            </a:endParaRPr>
          </a:p>
        </p:txBody>
      </p:sp>
      <p:pic>
        <p:nvPicPr>
          <p:cNvPr id="131" name="" descr=""/>
          <p:cNvPicPr/>
          <p:nvPr/>
        </p:nvPicPr>
        <p:blipFill>
          <a:blip r:embed="rId1"/>
          <a:stretch/>
        </p:blipFill>
        <p:spPr>
          <a:xfrm>
            <a:off x="5410080" y="4724280"/>
            <a:ext cx="2772000" cy="1852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equences</a:t>
            </a: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ly 700,000 young people ages 10 to 24 are treated in emergency departments each year for injuries sustained due to violence-related assaults (CDC 2009).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average, 16 persons between the ages of 10 and 24 are murdered each day in the United States (CDC 2009).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equences</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ddition to causing injury and death, youth violence affects communities by increasing the cost of health care, reducing productivity, decreasing property values, and disrupting social services </a:t>
            </a:r>
            <a:endParaRPr b="0" lang="en-US" sz="3200" spc="-1" strike="noStrike">
              <a:solidFill>
                <a:srgbClr val="000000"/>
              </a:solidFill>
              <a:latin typeface="Arial"/>
            </a:endParaRPr>
          </a:p>
        </p:txBody>
      </p:sp>
      <p:pic>
        <p:nvPicPr>
          <p:cNvPr id="136" name="" descr=""/>
          <p:cNvPicPr/>
          <p:nvPr/>
        </p:nvPicPr>
        <p:blipFill>
          <a:blip r:embed="rId1"/>
          <a:stretch/>
        </p:blipFill>
        <p:spPr>
          <a:xfrm>
            <a:off x="3400560" y="4308480"/>
            <a:ext cx="1769760" cy="175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w much youth violence is there and how does it affect us?</a:t>
            </a:r>
            <a:endParaRPr b="0" lang="en-US" sz="3400" spc="-1" strike="noStrike">
              <a:solidFill>
                <a:srgbClr val="000000"/>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th violence is an important public health problem that often results in deaths and injuries, as well as other consequences and costs that you may not have thought about.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th violence affects everybody, independent of age, gender, race, ethnicity, and geographical area.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if you are not a direct victim of youth violence, it affects you. </a:t>
            </a:r>
            <a:endParaRPr b="0" lang="en-US" sz="2800" spc="-1" strike="noStrike">
              <a:solidFill>
                <a:srgbClr val="000000"/>
              </a:solidFill>
              <a:latin typeface="Arial"/>
            </a:endParaRPr>
          </a:p>
        </p:txBody>
      </p:sp>
      <p:pic>
        <p:nvPicPr>
          <p:cNvPr id="139" name="" descr=""/>
          <p:cNvPicPr/>
          <p:nvPr/>
        </p:nvPicPr>
        <p:blipFill>
          <a:blip r:embed="rId1"/>
          <a:stretch/>
        </p:blipFill>
        <p:spPr>
          <a:xfrm>
            <a:off x="7238880" y="5334120"/>
            <a:ext cx="1198800" cy="1198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ading Causes of Death Among People Ages 1-44</a:t>
            </a:r>
            <a:endParaRPr b="0" lang="en-US" sz="3400" spc="-1" strike="noStrike">
              <a:solidFill>
                <a:srgbClr val="000000"/>
              </a:solidFill>
              <a:latin typeface="Arial"/>
            </a:endParaRPr>
          </a:p>
        </p:txBody>
      </p:sp>
      <p:pic>
        <p:nvPicPr>
          <p:cNvPr id="141" name="" descr="In 2007 in the United States, injuries, including all causes of unintentional and violence-related injuries combined, accounted for 51% of all deaths among persons ages 1-44 years of age – that is more deaths than non-communicable diseases and infectious diseases combined"/>
          <p:cNvPicPr/>
          <p:nvPr/>
        </p:nvPicPr>
        <p:blipFill>
          <a:blip r:embed="rId1"/>
          <a:stretch/>
        </p:blipFill>
        <p:spPr>
          <a:xfrm>
            <a:off x="1752480" y="1828800"/>
            <a:ext cx="5543640" cy="443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ssignment</a:t>
            </a:r>
            <a:endParaRPr b="0" lang="en-US" sz="3800" spc="-1" strike="noStrike">
              <a:solidFill>
                <a:srgbClr val="000000"/>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into groups of 3. I will assign you a risk factor level. </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create a skit to perform for the class that demonstrates your category.</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categories: Individual, Relationship, Community, &amp; Societal</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tell the class which category you were assigned. We will guess after your performan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9933"/>
                </a:solidFill>
                <a:latin typeface="Arial"/>
              </a:rPr>
              <a:t>BELL ACTIVITY Lesson 1</a:t>
            </a:r>
            <a:endParaRPr b="0" lang="en-US" sz="3800" spc="-1" strike="noStrike">
              <a:solidFill>
                <a:srgbClr val="000000"/>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What is violence prevention?</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33"/>
                </a:solidFill>
                <a:latin typeface="Arial"/>
              </a:rPr>
              <a:t>A. Learning techniques to lower your risk of being involved in violent behavior.</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33"/>
                </a:solidFill>
                <a:latin typeface="Arial"/>
              </a:rPr>
              <a:t>B. Bullying others.</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33"/>
                </a:solidFill>
                <a:latin typeface="Arial"/>
              </a:rPr>
              <a:t>C. Talking about other peopl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33"/>
                </a:solidFill>
                <a:latin typeface="Arial"/>
              </a:rPr>
              <a:t>D. Spreading rumors about other people.</a:t>
            </a:r>
            <a:endParaRPr b="0" lang="en-US" sz="2700" spc="-1" strike="noStrike">
              <a:solidFill>
                <a:srgbClr val="000000"/>
              </a:solidFill>
              <a:latin typeface="Arial"/>
            </a:endParaRPr>
          </a:p>
        </p:txBody>
      </p:sp>
      <p:pic>
        <p:nvPicPr>
          <p:cNvPr id="100" name="" descr=""/>
          <p:cNvPicPr/>
          <p:nvPr/>
        </p:nvPicPr>
        <p:blipFill>
          <a:blip r:embed="rId1"/>
          <a:stretch/>
        </p:blipFill>
        <p:spPr>
          <a:xfrm>
            <a:off x="6553080" y="4800600"/>
            <a:ext cx="1930680" cy="1571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9933"/>
                </a:solidFill>
                <a:latin typeface="Arial"/>
              </a:rPr>
              <a:t>BELL ACTIVITY Lesson 2</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What is bullying?</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33"/>
                </a:solidFill>
                <a:latin typeface="Arial"/>
              </a:rPr>
              <a:t>A. Spreading rumors about peopl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33"/>
                </a:solidFill>
                <a:latin typeface="Arial"/>
              </a:rPr>
              <a:t>B. Telling someone they are ugly.</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33"/>
                </a:solidFill>
                <a:latin typeface="Arial"/>
              </a:rPr>
              <a:t>C. Pushing someone around.</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33"/>
                </a:solidFill>
                <a:latin typeface="Arial"/>
              </a:rPr>
              <a:t>D. Texting mean things to a person.</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33"/>
                </a:solidFill>
                <a:latin typeface="Arial"/>
              </a:rPr>
              <a:t>E. All of the above.</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oes Bullying Lead to Violent Behaviors?</a:t>
            </a:r>
            <a:endParaRPr b="0" lang="en-US" sz="34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Bullying can happen anywhere: face-to-face, by text messages or on the web.</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ot limited by age, gender, or education level.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ot a phase and it is not a jok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llying can cause lasting har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Who is At Risk for Being Bullied?</a:t>
            </a:r>
            <a:br>
              <a:rPr sz="3400"/>
            </a:br>
            <a:endParaRPr b="0" lang="en-US" sz="34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ly, people that:</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not get along well with others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e less popular than others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ve few to no friends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not conform to gender norms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ve low self esteem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e depressed or anxi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Who is At Risk for Bullying Others?</a:t>
            </a:r>
            <a:br>
              <a:rPr sz="3400"/>
            </a:br>
            <a:endParaRPr b="0" lang="en-US" sz="34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eople who at risk for bullying others are well-connected to their peers, have social power, and at least one of the following:</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e overly concerned about their popularity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ike to dominate or be in charge of others</a:t>
            </a: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What Does Not Increase Risk:</a:t>
            </a:r>
            <a:br>
              <a:rPr sz="3400"/>
            </a:br>
            <a:endParaRPr b="0" lang="en-US" sz="34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tion.</a:t>
            </a:r>
            <a:r>
              <a:rPr b="0" lang="en-US" sz="2800" spc="-1" strike="noStrike">
                <a:solidFill>
                  <a:srgbClr val="000000"/>
                </a:solidFill>
                <a:latin typeface="Arial"/>
              </a:rPr>
              <a:t> There are no differences in rates of bullying for urban, suburban, or rural communities. Bullying happens everywher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 Size</a:t>
            </a:r>
            <a:r>
              <a:rPr b="0" lang="en-US" sz="2800" spc="-1" strike="noStrike">
                <a:solidFill>
                  <a:srgbClr val="000000"/>
                </a:solidFill>
                <a:latin typeface="Arial"/>
              </a:rPr>
              <a:t>. The overall percentage of students being bullied does not vary based on school size, although bullying does happen more often in larger schools.</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der.</a:t>
            </a:r>
            <a:r>
              <a:rPr b="0" lang="en-US" sz="2800" spc="-1" strike="noStrike">
                <a:solidFill>
                  <a:srgbClr val="000000"/>
                </a:solidFill>
                <a:latin typeface="Arial"/>
              </a:rPr>
              <a:t> Boys and girls are just as likely to be involved in bullying. Forms of bullying may vary by gender; for instance, some research has found that girls are more likely to bully others sociall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ber Bullying</a:t>
            </a:r>
            <a:endParaRPr b="0" lang="en-US" sz="3800" spc="-1" strike="noStrike">
              <a:solidFill>
                <a:srgbClr val="000000"/>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berbullying, instead of happening face-to-face, happens through the use of technology such as computers, cell phones and other electronic device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berbullying peaks around the end of middle school and the beginning of high scho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s of Cyber Bullying</a:t>
            </a:r>
            <a:endParaRPr b="0" lang="en-US" sz="38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ing hurtful, rude, or mean text messages to other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ing rumors or lies about others by e-mail or on social network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websites, videos or social media profiles that embarrass, humiliate, or make fun of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ullying online is very different from face-to-face bullying because messages and images can be: </a:t>
            </a:r>
            <a:endParaRPr b="0" lang="en-US" sz="3400" spc="-1" strike="noStrike">
              <a:solidFill>
                <a:srgbClr val="000000"/>
              </a:solidFill>
              <a:latin typeface="Arial"/>
            </a:endParaRPr>
          </a:p>
        </p:txBody>
      </p:sp>
      <p:sp>
        <p:nvSpPr>
          <p:cNvPr id="159" name="PlaceHolder 2"/>
          <p:cNvSpPr>
            <a:spLocks noGrp="1"/>
          </p:cNvSpPr>
          <p:nvPr>
            <p:ph/>
          </p:nvPr>
        </p:nvSpPr>
        <p:spPr>
          <a:xfrm>
            <a:off x="457200" y="2437920"/>
            <a:ext cx="8229600" cy="376884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t 24 hours a day, 7 days a week, 365 days a year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d be shared to a very wide audience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t anonymous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ffects of Cyber Bullying</a:t>
            </a:r>
            <a:endParaRPr b="0" lang="en-US" sz="38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on cyber bullying has found that students involved are more likely to:</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 unwilling to attend school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ceive poor grades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ve lower self-esteem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ve more health problem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ffects of Cyber Bullying… </a:t>
            </a: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berbullying can have particular affects on those who are targeted. Research has found that young people who have been cyberbullied are significantly more likely to:</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alcohol and drugs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kip school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perience in-person bullying or victimization</a:t>
            </a: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RYVE – backed by the CDC</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ving To Reduce Youth Violence Everywher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Between the world that is and the world that could be… there’s HOW.”</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TRYVE</a:t>
            </a:r>
            <a:r>
              <a:rPr b="0" lang="en-US" sz="2700" spc="-1" strike="noStrike">
                <a:solidFill>
                  <a:srgbClr val="000000"/>
                </a:solidFill>
                <a:latin typeface="Arial"/>
              </a:rPr>
              <a:t> is a national initiative, led by the Centers for Disease Control and Prevention (CDC), which takes a public health approach to preventing youth violence before it starts. </a:t>
            </a:r>
            <a:endParaRPr b="0" lang="en-US" sz="2700" spc="-1" strike="noStrike">
              <a:solidFill>
                <a:srgbClr val="000000"/>
              </a:solidFill>
              <a:latin typeface="Arial"/>
            </a:endParaRPr>
          </a:p>
        </p:txBody>
      </p:sp>
      <p:pic>
        <p:nvPicPr>
          <p:cNvPr id="103" name="" descr=""/>
          <p:cNvPicPr/>
          <p:nvPr/>
        </p:nvPicPr>
        <p:blipFill>
          <a:blip r:embed="rId1"/>
          <a:stretch/>
        </p:blipFill>
        <p:spPr>
          <a:xfrm>
            <a:off x="7696080" y="4843440"/>
            <a:ext cx="1447920" cy="2014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 Smart Online and Texting</a:t>
            </a: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prevent cyberbullying by being careful of what you do:</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lways think about what you post or say.</a:t>
            </a:r>
            <a:r>
              <a:rPr b="0" lang="en-US" sz="2700" spc="-1" strike="noStrike">
                <a:solidFill>
                  <a:srgbClr val="000000"/>
                </a:solidFill>
                <a:latin typeface="Arial"/>
              </a:rPr>
              <a:t> Do not share secrets, photos or anything that might be embarrassing to you or others. What seems funny or innocent at the time could be used against you. You do not have complete control over what others forward or post. </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 Smart Online and Texting Cont’d</a:t>
            </a: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t privacy settings on your accounts.</a:t>
            </a:r>
            <a:r>
              <a:rPr b="0" lang="en-US" sz="3200" spc="-1" strike="noStrike">
                <a:solidFill>
                  <a:srgbClr val="000000"/>
                </a:solidFill>
                <a:latin typeface="Arial"/>
              </a:rPr>
              <a:t> Make sure that you are only sharing information with people you know and trust. Pay attention to notices from social networks, because sometimes privacy settings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ke Cyber Bullying Stop</a:t>
            </a: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or someone you know is being cyberbullied, know that it does not have to be this way. There things you can do to help you and your friends:</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alk with someone you trust.</a:t>
            </a:r>
            <a:r>
              <a:rPr b="0" lang="en-US" sz="2300" spc="-1" strike="noStrike">
                <a:solidFill>
                  <a:srgbClr val="000000"/>
                </a:solidFill>
                <a:latin typeface="Arial"/>
              </a:rPr>
              <a:t> Talking to someone could help you figure out the best ways to deal with the problem. Reach out to a family member, friend or another adult that you trust. </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o not respond to cyberbullying.</a:t>
            </a:r>
            <a:r>
              <a:rPr b="0" lang="en-US" sz="2300" spc="-1" strike="noStrike">
                <a:solidFill>
                  <a:srgbClr val="000000"/>
                </a:solidFill>
                <a:latin typeface="Arial"/>
              </a:rPr>
              <a:t> Sometimes people post or text teasing or name-calling to get a reaction. If someone has posted or sent a message that could be hurtful to others, refuse to pass it along or respond to i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ke Cyber Bullying Stop Cont’d</a:t>
            </a: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ep evidence of cyberbullying.</a:t>
            </a:r>
            <a:r>
              <a:rPr b="0" lang="en-US" sz="2800" spc="-1" strike="noStrike">
                <a:solidFill>
                  <a:srgbClr val="000000"/>
                </a:solidFill>
                <a:latin typeface="Arial"/>
              </a:rPr>
              <a:t> Record the dates, times and descriptions of instances when cyberbullying has occurred. Save and print screenshots, e-mails, and text messages.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ock the person who is cyberbullying you.</a:t>
            </a:r>
            <a:r>
              <a:rPr b="0" lang="en-US" sz="2800" spc="-1" strike="noStrike">
                <a:solidFill>
                  <a:srgbClr val="000000"/>
                </a:solidFill>
                <a:latin typeface="Arial"/>
              </a:rPr>
              <a:t> Many websites and phone companies let you block people. Also, cyberbullying may violate the “Terms and Conditions” of these services. Consider contacting the service provider to file a complai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ke Cyber Bullying Stop Cont’d</a:t>
            </a: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ort the incident to your school.</a:t>
            </a:r>
            <a:r>
              <a:rPr b="0" lang="en-US" sz="3200" spc="-1" strike="noStrike">
                <a:solidFill>
                  <a:srgbClr val="000000"/>
                </a:solidFill>
                <a:latin typeface="Arial"/>
              </a:rPr>
              <a:t> They may be able to help you resolve the cyberbullying or be watchful for face-to-face bullying.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k for help.</a:t>
            </a:r>
            <a:r>
              <a:rPr b="0" lang="en-US" sz="3200" spc="-1" strike="noStrike">
                <a:solidFill>
                  <a:srgbClr val="000000"/>
                </a:solidFill>
                <a:latin typeface="Arial"/>
              </a:rPr>
              <a:t> Sometimes, talking to a counselor or health professional can help you get through the emotional effects of bully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st Your Knowledge About Bullying</a:t>
            </a: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 People who bully have power over those they bully. </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eople who bully others usually pick on those who have less social power (peer status), psychological power (know how to harm others), or physical power (size, strength). However, some people who bully also have been bullied by others. People who both bully and are bullied by others are at the highest risk for problems (such as depression and anxiety) and are more likely to become involved in risky or delinquent behavior. </a:t>
            </a:r>
            <a:endParaRPr b="0" lang="en-US" sz="2300" spc="-1" strike="noStrike">
              <a:solidFill>
                <a:srgbClr val="000000"/>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 Spreading rumors is a form of bullying.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reading rumors, name-calling, excluding others, and embarrassing them are all forms of social bullying that can cause serious and lasting harm.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TH: Only boys bully. </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ople think that physical bullying by boys is the most common form of bullying. However, verbal, social, and physical bullying happens among both boys and girls, especially as they grow older.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YTH: People who bully are insecure and have low self-esteem. </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ny people who bully are popular and have average or better-than-average self-esteem. </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y often take pride in their aggressive behavior and control over the people they bully. </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eople who bully may be part of a group that thinks bullying is okay. </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ome people who bully may also have poor social skills and experience anxiety or depression. For them, bullying can be a way to gain social statu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YTH: Bullying usually occurs when there are no other students around. </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ents see about four out of every five bullying incidents at school. </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fact, when they witness bullying, they give the student who is bullying positive attention or even join in about three-quarters of the time. </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though 9 out of 10 students say there is bullying in their schools, adults rarely see bullying, even if they are looking for i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hat is youth violence and what are the factors that influence it?</a:t>
            </a:r>
            <a:endParaRPr b="0" lang="en-US" sz="34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 violence may be defined as the intentional use of force—whether threatened or real—against a person, group, or community that results in—or has a high likelihood of resulting in—injury, death, psychological harm, maldevelopment or deprivation by persons between the ages of 10 and 2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YTH: Bullying often resolves itself when you ignore it. </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llying reflects an imbalance of power that happens again and again. </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gnoring the bullying teaches students who bully that they can bully others without consequences. </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ults and other students need to stand up for children who are bullied, and to ensure they are protected and safe.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YTH: All children will outgrow bullying. </a:t>
            </a:r>
            <a:r>
              <a:rPr b="1"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For some, bullying continues as they become older. Unless someone intervenes, the bullying will likely continue and, in some cases, grow into violence and other serious problems. Children who consistently bully others often continue their aggressive behavior through adolescence and into adulthood.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YTH: Reporting bullying will make the situation worse.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earch shows that children who report bullying to an adult are less likely to experience bullying in the future. Adults should encourage children to help keep their school safe and to tell an adult when they see bullying.</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YTH: Teachers often intervene to stop bullying.</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ults often do not witness bullying despite their good intentions. Teachers intervene in only 14 percent of classroom bullying episodes and in 4 percent of bullying incidents that happen outside the classroom.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YTH: Nothing can be done at schools to reduce bullying.</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hool initiatives to prevent and stop bullying have reduced bullying by 15 to 50 percent. The most successful initiatives involve the entire school community of teachers, staff, parents, students, and community member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YTH: Parents are usually aware that their children are bullying others. </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s play a critical role in bullying prevention, but they often do not know if their children bully or are bullied by others. To help prevent bullying, parents need to talk with their children about what is happening at school and in the commun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ssignment</a:t>
            </a:r>
            <a:endParaRPr b="0" lang="en-US" sz="3800" spc="-1" strike="noStrike">
              <a:solidFill>
                <a:srgbClr val="000000"/>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in a group of 3 and create a bullying skit. It can be any type of bullying.</a:t>
            </a:r>
            <a:endParaRPr b="0" lang="en-US" sz="3200" spc="-1" strike="noStrike">
              <a:solidFill>
                <a:srgbClr val="000000"/>
              </a:solidFill>
              <a:latin typeface="Arial"/>
            </a:endParaRPr>
          </a:p>
          <a:p>
            <a:pPr marL="339480" indent="-33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yber Bullying</a:t>
            </a:r>
            <a:endParaRPr b="0" lang="en-US" sz="27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hysical Bullying</a:t>
            </a:r>
            <a:endParaRPr b="0" lang="en-US" sz="27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ocal Bullying</a:t>
            </a:r>
            <a:endParaRPr b="0" lang="en-US" sz="2700" spc="-1" strike="noStrike">
              <a:solidFill>
                <a:srgbClr val="000000"/>
              </a:solidFill>
              <a:latin typeface="Arial"/>
            </a:endParaRPr>
          </a:p>
          <a:p>
            <a:pPr lvl="1" marL="7354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NOT tell the class which type of skit you are doing. When you present, the class will gues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sson 3</a:t>
            </a:r>
            <a:endParaRPr b="0" lang="en-US" sz="3800" spc="-1" strike="noStrike">
              <a:solidFill>
                <a:srgbClr val="000000"/>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1"/>
              </a:rPr>
              <a:t>Know the Risk Factors Before Bullying Begins | </a:t>
            </a:r>
            <a:r>
              <a:rPr b="0" lang="en-US" sz="3200" spc="-1" strike="noStrike" u="sng">
                <a:solidFill>
                  <a:srgbClr val="6767ff"/>
                </a:solidFill>
                <a:uFillTx/>
                <a:latin typeface="Arial"/>
                <a:hlinkClick r:id="rId2"/>
              </a:rPr>
              <a:t>StopBullying.gov</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out the worksheet as you watch the vide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ill be turned in when class is o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Youth Violence </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spcAft>
                <a:spcPts val="1001"/>
              </a:spcAft>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767ff"/>
                </a:solidFill>
                <a:uFillTx/>
                <a:latin typeface="Arial"/>
                <a:hlinkClick r:id="rId1"/>
              </a:rPr>
              <a:t>Youth Violence</a:t>
            </a:r>
            <a:endParaRPr b="0" lang="en-US" sz="2700" spc="-1" strike="noStrike">
              <a:solidFill>
                <a:srgbClr val="000000"/>
              </a:solidFill>
              <a:latin typeface="Arial"/>
            </a:endParaRPr>
          </a:p>
          <a:p>
            <a:pPr lvl="1" marL="743040" indent="-285840">
              <a:spcBef>
                <a:spcPts val="675"/>
              </a:spcBef>
              <a:spcAft>
                <a:spcPts val="1001"/>
              </a:spcAft>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u="sng">
                <a:solidFill>
                  <a:srgbClr val="6767ff"/>
                </a:solidFill>
                <a:uFillTx/>
                <a:latin typeface="Arial"/>
                <a:hlinkClick r:id="rId2"/>
              </a:rPr>
              <a:t>Violence Prevention Fact Sheet</a:t>
            </a:r>
            <a:endParaRPr b="0" lang="en-US" sz="27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serious problem…</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 violence is a serious problem that can have lasting harmful effects on victims and their family, friends, and communitie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for youth violence prevention is simple-to stop youth violence from happening in the first place. But the solutions are as complex as the problem.</a:t>
            </a:r>
            <a:endParaRPr b="0" lang="en-US" sz="3200" spc="-1" strike="noStrike">
              <a:solidFill>
                <a:srgbClr val="000000"/>
              </a:solidFill>
              <a:latin typeface="Arial"/>
            </a:endParaRPr>
          </a:p>
        </p:txBody>
      </p:sp>
      <p:pic>
        <p:nvPicPr>
          <p:cNvPr id="110" name="" descr=""/>
          <p:cNvPicPr/>
          <p:nvPr/>
        </p:nvPicPr>
        <p:blipFill>
          <a:blip r:embed="rId1"/>
          <a:stretch/>
        </p:blipFill>
        <p:spPr>
          <a:xfrm>
            <a:off x="6477120" y="5038560"/>
            <a:ext cx="1854000" cy="181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isk Factors</a:t>
            </a:r>
            <a:endParaRPr b="0" lang="en-US" sz="3800" spc="-1" strike="noStrike">
              <a:solidFill>
                <a:srgbClr val="000000"/>
              </a:solidFill>
              <a:latin typeface="Arial"/>
            </a:endParaRPr>
          </a:p>
        </p:txBody>
      </p:sp>
      <p:sp>
        <p:nvSpPr>
          <p:cNvPr id="11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factors give us insights into what may increase the likelihood of a young person becoming violent.</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9933"/>
                </a:solidFill>
                <a:latin typeface="Arial"/>
              </a:rPr>
              <a:t>Risk factors do not cause youth to become violent.</a:t>
            </a:r>
            <a:r>
              <a:rPr b="0" lang="en-US" sz="3200" spc="-1" strike="noStrike">
                <a:solidFill>
                  <a:srgbClr val="000000"/>
                </a:solidFill>
                <a:latin typeface="Arial"/>
              </a:rPr>
              <a:t> However, the presence of risk factors increases the chances for violence. </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Risk factors are broken down into four levels: individual, relationship, community, and societal.</a:t>
            </a:r>
            <a:endParaRPr b="0" lang="en-US" sz="3200" spc="-1" strike="noStrike">
              <a:solidFill>
                <a:srgbClr val="000000"/>
              </a:solidFill>
              <a:latin typeface="Arial"/>
            </a:endParaRPr>
          </a:p>
        </p:txBody>
      </p:sp>
      <p:pic>
        <p:nvPicPr>
          <p:cNvPr id="113" name="" descr=""/>
          <p:cNvPicPr/>
          <p:nvPr/>
        </p:nvPicPr>
        <p:blipFill>
          <a:blip r:embed="rId1"/>
          <a:stretch/>
        </p:blipFill>
        <p:spPr>
          <a:xfrm>
            <a:off x="6781680" y="152280"/>
            <a:ext cx="1809720" cy="154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dividual Risk Factors</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of violent victimization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tion deficits, hyperactivity or learning disorders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of early aggressive behavior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ment with drugs, alcohol or tobacco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IQ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behavioral control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cits in social cognitive or information-processing abilities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emotional distress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of treatment for emotional problems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social beliefs and attitudes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to violence and conflict in the famil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 descr=""/>
          <p:cNvPicPr/>
          <p:nvPr/>
        </p:nvPicPr>
        <p:blipFill>
          <a:blip r:embed="rId1"/>
          <a:stretch/>
        </p:blipFill>
        <p:spPr>
          <a:xfrm>
            <a:off x="7924680" y="2362320"/>
            <a:ext cx="970200" cy="144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amily Risk Factors</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tarian childrearing attitude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sh, lax or inconsistent disciplinary practice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parental involvement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emotional attachment to parents or caregiver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parental education and income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al substance abuse or criminality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family functioning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monitoring and supervision of childr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1T22:59:31Z</dcterms:created>
  <dc:creator>Hope Whiting</dc:creator>
  <dc:description/>
  <dc:language>en-US</dc:language>
  <cp:lastModifiedBy>Hope Whiting</cp:lastModifiedBy>
  <dcterms:modified xsi:type="dcterms:W3CDTF">2011-06-22T00:21:07Z</dcterms:modified>
  <cp:revision>4</cp:revision>
  <dc:subject/>
  <dc:title>Preventing Violence &amp; Abuse</dc:title>
</cp:coreProperties>
</file>